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796-A722-4DE6-8FDF-FE961CC3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1F7-EBDE-4C6F-9477-9E049E6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3C2-7410-41E2-89EC-0CA0848A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D76-DDBA-4D11-B89C-F1B597BD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583-37D4-4DBD-9A1D-9B412D75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A08-FAF6-45A1-9A63-B2105992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DD5-1D25-4871-88B7-3F0BD89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494-2BB5-49BD-9ED4-DD3EF645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B3C-7599-4CA9-A980-BD6B72D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0C1-C191-466E-AA19-93467FA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23E-1B84-45B5-B820-C7243F5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B80-8602-4096-B65B-B1C21A2D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908E-E91C-4DAA-AEAF-B9B58F6D98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975-05BF-4641-B8B7-5E87BF6AB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9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45" name="Freeform 2"/>
            <p:cNvSpPr/>
            <p:nvPr/>
          </p:nvSpPr>
          <p:spPr>
            <a:xfrm>
              <a:off x="3164040" y="0"/>
              <a:ext cx="5979960" cy="32385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50a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3"/>
            <p:cNvSpPr/>
            <p:nvPr/>
          </p:nvSpPr>
          <p:spPr>
            <a:xfrm>
              <a:off x="3693960" y="1935000"/>
              <a:ext cx="1616400" cy="10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5310360" cy="47260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50a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Group 8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49" name="Freeform 5"/>
              <p:cNvSpPr/>
              <p:nvPr/>
            </p:nvSpPr>
            <p:spPr>
              <a:xfrm>
                <a:off x="0" y="0"/>
                <a:ext cx="3675240" cy="137808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6"/>
              <p:cNvSpPr/>
              <p:nvPr/>
            </p:nvSpPr>
            <p:spPr>
              <a:xfrm>
                <a:off x="0" y="455760"/>
                <a:ext cx="4487760" cy="24764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7"/>
              <p:cNvSpPr/>
              <p:nvPr/>
            </p:nvSpPr>
            <p:spPr>
              <a:xfrm>
                <a:off x="0" y="1322280"/>
                <a:ext cx="5105520" cy="26622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AMERICAN REVOLU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m Elite Protest to Popular Revolt, 1763–178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ginning “The World Over Agai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980720"/>
            <a:ext cx="7999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tish colonial governments col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Continental Congress—action and in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775—Organize the colonies for war  (George Washington appointed commander in chie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tish action that makes compromise unlik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tish blockade colonists’ t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1776—Thomas Pain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mmon Sen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inces ordinary colonists to sever ties with Brit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efferson writes Declaration of Independ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4—Declaration of Independence issu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men are created equal” and “king is the caus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hting for 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828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nfident of vic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population, more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al suprem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underestimate Americans’ commitment to their political ide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army to be a fighting force and symbol of the republican 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go well for Americans for the first two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rench Al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s of Saratoga (Oct 177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inces France that colonists are serious enough to become formal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sue for peace to prevent Franco-American alliance but it is too 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merican Revolution, 1775–17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DIVI7233102"/>
          <p:cNvPicPr/>
          <p:nvPr/>
        </p:nvPicPr>
        <p:blipFill>
          <a:blip r:embed="rId2"/>
          <a:srcRect l="-93455" t="0" r="-9345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yalist Strongho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DIVI7233106"/>
          <p:cNvPicPr/>
          <p:nvPr/>
        </p:nvPicPr>
        <p:blipFill>
          <a:blip r:embed="rId2"/>
          <a:srcRect l="-48417" t="0" r="-484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yalist Dilem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100,000 Loyalists leave U.S. at war’s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ists share basic ideology with Patri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ists see rebellion as endangering “life, liberty, and proper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ists treated poorly by both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never fully trust Loy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riots seize property, imprison, execute 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ning the Pe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negotiators are John Jay, Ben Franklin, and John Ad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ce Treaty of 17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independence recogn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gets all territory east of Mississippi River, between Canada and 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secures fishing rights in North Atlan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will help British merchants and Loyalists collect deb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rving 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erican Revolution begins construction of new form of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 remains: a government of the elite or a government of the peop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ial Products and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IVI7233091"/>
          <p:cNvPicPr/>
          <p:nvPr/>
        </p:nvPicPr>
        <p:blipFill>
          <a:blip r:embed="rId1"/>
          <a:srcRect l="-9090" t="0" r="-909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Coloni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60s an optimistic post-wa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king ethnic and racial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 of population under twenty-one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ly high per-capita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down of Political T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60—George III ascends thr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limited ability, wants to take more active role in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liamentary sovereig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lish officials assume that Parliament must have ultimate author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try to reserve internal colonial authority for their own legisl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s not represented at all in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nists insist only colonial assemblies should represent Amer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oding the Bonds of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, expensive debt and army left in America from Seven Years’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doubt the army’s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ntiac’s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es the British army’s weak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determined to settle trans-Appalachia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lamation of 1763 bans settlement in trans-Appalachia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ing Off the National Deb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 Minister George Grenville attempts to reduce England’s war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ct of 1764 (the Sugar A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ries of other Acts will be passed that will lead to protest and all out war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IVI7233TB501"/>
          <p:cNvPicPr/>
          <p:nvPr/>
        </p:nvPicPr>
        <p:blipFill>
          <a:blip r:embed="rId2"/>
          <a:stretch/>
        </p:blipFill>
        <p:spPr>
          <a:xfrm>
            <a:off x="533520" y="457200"/>
            <a:ext cx="80769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r Prote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19810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s of Liberty protest includes riots, mob violence, and boycot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s of Liberty protest includes riots, mob violence, and boycot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ston Massac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ston Tea Party (response to the Coercive A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ward 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 1774—First Continental Congress in response to Coercive 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ess commends urging forcible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ngton and Concord (April 17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t Heard Around the Worl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2:31:44Z</dcterms:created>
  <dc:creator/>
  <dc:description/>
  <dc:language>en-US</dc:language>
  <cp:lastModifiedBy>Buffalo Grive High School</cp:lastModifiedBy>
  <dcterms:modified xsi:type="dcterms:W3CDTF">2010-09-10T13:44:05Z</dcterms:modified>
  <cp:revision>14</cp:revision>
  <dc:subject/>
  <dc:title>Chapter 5 THE AMERICAN REVOLUTION From Elite Protest to Popular Revolt, 1763-1783</dc:title>
</cp:coreProperties>
</file>